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DC6-C58B-443E-971C-11DF6A9F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81D7-707F-4D91-8A8B-D374BE91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C91-C43D-4E77-978B-6658A716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4078-58B3-4462-9278-557FD152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9785-602C-4D17-9F6D-74B2F43B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8602-66A4-4480-AA41-32F02E10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ABF4-06BC-478C-A3A5-6C3D0E76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4E7E-C807-4A2F-AF6A-4B796C02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61F8-CD5E-4F9C-AB76-708196B7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E37-C4EC-4FFF-8227-1F2A2136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3D12-A58E-4514-A2B2-954CBE8E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514-E3BB-4CA7-BFFC-CBD759C5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A54-5AA3-46F8-AE12-CF0B65B8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4E0C-FF55-4A45-9DE3-986A7A05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4A6D-C4D5-4EFC-A448-38EB1BC2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616-B533-42AC-8907-37709E17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C86-8711-4964-BE85-7321CCF27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DBF-E88E-4DFE-B995-284B669E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CDA-08D5-4E79-B733-C032D478F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B32B-5085-4561-8172-D1431D47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7785-4B5B-4468-B7BB-02F726A9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FCE-F8F6-4C3E-A583-325A1039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B4EE-53ED-4746-AD3A-3F65E90E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778-EE38-420A-AC55-DDC24B4D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0CB-F07F-41BE-A099-72003213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3E3-5994-4A84-B205-B120B063C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38F-2193-4C34-8392-DA3AEF8BB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C87-01B9-402E-8089-AFB385356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5E9-767C-4DBC-8FB8-FDF6B939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F4F-E265-4F96-B492-3BFA0D5E9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F205-35E9-4140-861F-5C29595A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0D2-B9F1-49DC-9C9B-6BFC53BF4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EB8-D122-4074-B3A9-9933CD3B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B32-F5B6-4827-8705-1D8753C5F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E5DB-5D6D-4011-9E29-D9FA0291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FD8-AE22-4B9B-81D6-40CB5E74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19C-3BE2-4EE6-81ED-5B94727B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AEAD-281E-4B98-B14E-00AE528C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19664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84480"/>
            <a:ext cx="250236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4582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48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96640"/>
            <a:ext cx="37926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480"/>
            <a:ext cx="7772400" cy="254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637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637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324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s.kun.nl/~erikpoll/ftfjp/2002/KennedySyme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Method_(computer_science)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796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Parametric Polymorphism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tonio Cisterni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Sortable&lt;T&gt;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mpareTo(T a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Vector&lt;T: Sortable&lt;T&gt;&gt;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[] v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z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() { sz = 0; v = new T[15]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ddElement(T e) {…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rt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v[i].compareTo(v[j]) &gt; 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708360" y="4984920"/>
            <a:ext cx="3672000" cy="1539720"/>
          </a:xfrm>
          <a:prstGeom prst="wedgeEllipseCallout">
            <a:avLst>
              <a:gd name="adj1" fmla="val -63879"/>
              <a:gd name="adj2" fmla="val -54018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r can type-check this because v contains values that implement Sortable&lt;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284720" y="2852640"/>
            <a:ext cx="3240000" cy="1079640"/>
          </a:xfrm>
          <a:prstGeom prst="wedgeRoundRectCallout">
            <a:avLst>
              <a:gd name="adj1" fmla="val -47356"/>
              <a:gd name="adj2" fmla="val 80587"/>
              <a:gd name="adj3" fmla="val 16667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ossible in Java, because Sortable is an interface and type T is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34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ameterized type is checked also if no instantiation is pres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on type parameters are always explicit (if no bound is specified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Typewriter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ssum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possible to make assumptions beyond bound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you can always cheat by upcasting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Typewriter"/>
              </a:rPr>
              <a:t>O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n do whatever you wa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class Foo&lt;T : Button&gt;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void foo(T b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tring s = (String)(Object)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the assumption made by the programmer is ex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348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mplementations of parametric polymorphis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only collects definition at class definition; code is produced at first instant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deals with generic types at compile time: the JVM is not aware of parametri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# exploits support by the CLR (Common Language Runtime) of parametri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IL (Common Intermediate Language) has special instructions for dealing with typ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 Generics strateg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34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Java compiler verifies that generic types are used corre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ype parameters are dropped and the bound is used instead; downcasts are inserted in the right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d code is a normal class file unaware of parametric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5120" y="1980720"/>
            <a:ext cx="40384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Vector&lt;T&gt;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[] v; int sz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ctor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 = new T[15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z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U implements Comparer&lt;T&gt;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ort(U c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.compare(v[i], v[j]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ctor&lt;Button&gt; v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.addElement(new Button()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tton b = v.elementAt(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25520" y="1980720"/>
            <a:ext cx="403884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Vector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 v; int sz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ctor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 = 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5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z =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ort(Comparer c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.compare(v[i], v[j]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ctor v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.addElement(new Button()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tton b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Button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.elementAt(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986280" y="2997360"/>
            <a:ext cx="792000" cy="0"/>
          </a:xfrm>
          <a:prstGeom prst="line">
            <a:avLst/>
          </a:prstGeom>
          <a:ln w="1620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ildcar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lass Pair&lt;X,Y&gt;  { 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  X firs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  Y second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 String pairString(Pair&lt;?, ?&gt; p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eturn p.first + “, “ + p.second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ressivity vs. efficienc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63480" y="191628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G does not improve execution speed; though it helps to express genericity better than inherita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jor limitation in JG expressivity: exact type information is lost at runti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 instantiations of a generic type collapse to the same cla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sequences are: no virtual generic methods and pathological situ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nefit: old Java &lt; 5 classes could be seen as generic types! Reuse of the existing codeba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s and Jav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06400" y="1700280"/>
          <a:ext cx="8013600" cy="3902040"/>
        </p:xfrm>
        <a:graphic>
          <a:graphicData uri="http://schemas.openxmlformats.org/drawingml/2006/table">
            <a:tbl>
              <a:tblPr/>
              <a:tblGrid>
                <a:gridCol w="4197240"/>
                <a:gridCol w="2160720"/>
                <a:gridCol w="1655640"/>
              </a:tblGrid>
              <a:tr h="112644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Java Generics</a:t>
                      </a:r>
                      <a:br>
                        <a:rPr sz="1800"/>
                      </a:br>
                      <a:r>
                        <a:rPr b="1" lang="en-GB" sz="14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Wad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Generic CLR</a:t>
                      </a:r>
                      <a:br>
                        <a:rPr sz="1800"/>
                      </a:br>
                      <a:r>
                        <a:rPr b="1" lang="en-GB" sz="14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Kennedy,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Sy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</a:tr>
              <a:tr h="57924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Parameterized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br>
                        <a:rPr sz="2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o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br>
                        <a:rPr sz="2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o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Polymorphic meth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Type checking at point of defi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Non-reference instanti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Exact run-time 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Polymorphic virtual meth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68686"/>
                          </a:solidFill>
                          <a:latin typeface="Arial"/>
                        </a:rPr>
                        <a:t>Type parameter 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0ff"/>
                    </a:solidFill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68"/>
          <p:cNvSpPr/>
          <p:nvPr/>
        </p:nvSpPr>
        <p:spPr>
          <a:xfrm>
            <a:off x="828720" y="1700280"/>
            <a:ext cx="4174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3621240" y="18064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869760" y="23414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ilation Strateg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compiler compiles to Java byteco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bytecode is loaded and compiled at run time by the JIT + HotSp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# (and other CLR) compilers generate CIL code which is compiled to binary at load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blem with Java Generi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&lt;String&gt; s = new Stack&lt;String&gt;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push("Hello"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&lt;Object&gt; o =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&lt;Button&gt; b = (Stack&lt;Button&gt;)o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// Class cast excep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Button mb = b.pop(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859280" y="4076640"/>
            <a:ext cx="3168720" cy="1440000"/>
          </a:xfrm>
          <a:prstGeom prst="wedgeRoundRectCallout">
            <a:avLst>
              <a:gd name="adj1" fmla="val -43736"/>
              <a:gd name="adj2" fmla="val -72712"/>
              <a:gd name="adj3" fmla="val 16667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 authoriz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ack&lt;String&gt; and Stack&lt;Button&gt; map to class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ametric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634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templates implement a form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metric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P is implemented in many flavors and many languages: Eiffel, Mercury, Haskell, ADA, ML, C++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the expressivity of a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mprove the performance of pr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form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ype Erasu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rrayList&lt;Integer&gt; li = new ArrayList&lt;Integer&gt;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rrayList&lt;Float&gt; lf = new ArrayList&lt;Float&gt;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f (li.getClass() == lf.getClass()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Lucida Sans Typewriter"/>
              </a:rPr>
              <a:t>// evaluates to tr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ystem.out.println("Equal"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 C#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512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R supports parametri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L placeholders are used to indicate type arguments (!0, !1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program needs an instantiation of a generic typ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es the appropriate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IT can share implementation of reference instantiation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ck&lt;String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essentially the same cod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ck&lt;Object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 C# compil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6348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-like syntax with notation for b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type-inference on generic methods: the type must be specified in the c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iler relies on GCLR to generate th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ct runtime types are granted by the CLR so virtual generic methods are allow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ype constructors can be parameterized: struct, classes, interfaces and deleg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826920" y="2637000"/>
            <a:ext cx="3600720" cy="431640"/>
          </a:xfrm>
          <a:prstGeom prst="rect">
            <a:avLst/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35120" y="1981080"/>
            <a:ext cx="4038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ing Sys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space n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[] v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 v = new T[15]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Main(string[] arg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&lt;string&gt; f =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Foo&lt;string&gt;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.v[0] = "Hello"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h = f.v[0]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Write(h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25520" y="1980720"/>
            <a:ext cx="403884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.field private !0[] 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method private hidebysi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pecialname rtspecialn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 void  .ctor() cil managed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maxstack 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arg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    instance void [mscorlib]System.Object::.ctor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arg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c.i4.s   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newarr     !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stfld      !0[] class n.Foo&lt;!0&gt;::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/ end of method Foo::.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344840" y="2852640"/>
            <a:ext cx="576360" cy="0"/>
          </a:xfrm>
          <a:prstGeom prst="line">
            <a:avLst/>
          </a:prstGeom>
          <a:ln w="1522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formance of CLR Generi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348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ite instantiation being performed at load time, the overhead is minim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sharing reduces instantiations, improving execution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chnique based on dictionaries is employed to keep track of previous instantiat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ressive power of Generi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1557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type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calculus with polymorphic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Turing-equivalence is a trivial property of programming languages, for a type-system being equivalent to Syste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is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morphic languages such as ML and Haskell cannot fully express Syste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oth languages have been extended to fill the 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transposed into C#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cs.kun.nl/~erikpoll/ftfjp/2002/KennedySyme.pd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skov Substitution Princi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Typing/Sub-Classing defines the class relation 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-type of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marked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substitution principl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n instance of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substituted for an instance of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is legal to assign an instanc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of typ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 a = 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 as Subtyp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ssump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lass B derives from class A th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&lt;: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s and Subtyp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55640" y="12682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rules for sub-types and assignment work for generic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&lt;: A, then G&lt;B&gt; &lt;: G&lt;A&gt;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63480" y="380844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66800" y="3003480"/>
            <a:ext cx="8207280" cy="1728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String&gt; ls = new List&lt;String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Object&gt; lo = 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e5"/>
                </a:solidFill>
                <a:latin typeface="Courier New"/>
              </a:rPr>
              <a:t>// Since String &lt;: Object, so far so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.add(new Objec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(String)ls.get(0); //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766800" y="4948200"/>
            <a:ext cx="8209080" cy="720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le B &lt;: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&lt;B&gt; &lt;: G&lt;A&gt; defies the principle of substitu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66800" y="2571840"/>
            <a:ext cx="82072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440" y="1698480"/>
            <a:ext cx="4390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class B extends A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class G&lt;E&gt;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public E 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B&gt; gb = new G&lt;B&gt;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A&gt; ga = g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a.e = new A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B b = gb.e; // </a:t>
            </a:r>
            <a:r>
              <a:rPr b="0" lang="en-US" sz="2000" spc="-1" strike="noStrike">
                <a:solidFill>
                  <a:srgbClr val="cc0000"/>
                </a:solidFill>
                <a:latin typeface="Lucida Sans Typewriter"/>
              </a:rPr>
              <a:t>Erro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6720" y="1690560"/>
            <a:ext cx="39592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B &lt;: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ssuming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&lt;B&gt; &lt;: G&lt;A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G&lt;A&gt; ga = g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be leg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va, type is er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templates and macro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34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s are dealt by the pre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templates are implemented on the syntax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antiation strategy is la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class compiles unless the metho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template &lt;class T&gt;class Foo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T 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int foo() { return x + 2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Foo&lt;char*&gt; f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f.x = “”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</a:rPr>
              <a:t>f.foo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unded Wildcar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ldcard does not allow doing mu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operations with wildcard types, one can specif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Upper B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cestor of unknow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&lt;? extends X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&lt;T&gt; where T 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endant of unknow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&lt;? super Y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3080" indent="-322308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G&lt;T&gt; where Y :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unded Wildcards Subtyping Ru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B such that B &lt;: 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&lt;B&gt; &lt;: G&lt;? extends A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&lt;A&gt; &lt;: G&lt;? super B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unded Wildcards -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698480"/>
            <a:ext cx="4102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A&gt; ga = new G&lt;A&gt;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B&gt; gb = new G&lt;B&gt;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? extends A&gt; gea = g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Typewriter"/>
              </a:rPr>
              <a:t>// Can read fr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A a = gea.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? super B&gt; gsb = g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Typewriter"/>
              </a:rPr>
              <a:t>// Can write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sb.e = new B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76720" y="1628640"/>
            <a:ext cx="38102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B&gt; &lt;: G&lt;? extends A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ence leg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&lt;A&gt; &lt;: G&lt;? super B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hence leg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ildcard subtyping in Jav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324480" cy="4095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1309680" y="6597720"/>
            <a:ext cx="18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 Condensed"/>
              </a:rPr>
              <a:t>By Vilhelm.s - CC BY-SA 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s and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640" y="17002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lass Shape { void draw() {…}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lass Circle extends Shape { void draw() {…}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lass Rectangle extends Shape { void draw() {…}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void drawAll(Collection&lt;Shape&gt; shape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for (Shape s: shap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s.draw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work.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used on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ollection&lt;Circle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unded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d the wildcard: replace the type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ollection&lt;Shape&gt;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Collection&lt;? extends Shape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void drawAll(Collection&lt;? extends Shape&gt; shapes)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for (Shape s: shap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s.draw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drawAll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ll accept lists of any subclass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nds for an unknown subtype of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ype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pper bou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wild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unded Wildcar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problem when using wildcard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void addCircle(Collection&lt;? extends Shape&gt; shapes) 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shapes.add(new Circle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happen? Wh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variance, Contravariance, Invari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ypes A and B such that B &lt;: A, a type constructor G is sai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t: if G&lt;B&gt; &lt;: G&lt;A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variant: if G&lt;A&gt; &lt;: G&lt;B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riant: if neither covariant nor contravari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# Variance Decla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440" y="119664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 IEnumerator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&gt;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Current { get; 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 MoveNext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ublic delegate void Action&lt;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T&gt;(T obj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&lt;Shape&gt; b = (shape) =&gt; { shape.draw(); }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&lt;Circle&gt; d = b;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/ Action&lt;Shape&gt; &lt;: Action&lt;Circle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new Circle(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&lt;Object&gt; o = b;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// illeg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variant type parameter can be used as the return type of a deleg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travariant type parameters can be used as parameter typ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ular Callout 3"/>
          <p:cNvSpPr/>
          <p:nvPr/>
        </p:nvSpPr>
        <p:spPr>
          <a:xfrm>
            <a:off x="3887640" y="3284640"/>
            <a:ext cx="5256360" cy="431640"/>
          </a:xfrm>
          <a:prstGeom prst="wedgeRoundRectCallout">
            <a:avLst>
              <a:gd name="adj1" fmla="val -40606"/>
              <a:gd name="adj2" fmla="val -86259"/>
              <a:gd name="adj3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function argument is contra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ular Callout 4"/>
          <p:cNvSpPr/>
          <p:nvPr/>
        </p:nvSpPr>
        <p:spPr>
          <a:xfrm>
            <a:off x="3276720" y="1844640"/>
            <a:ext cx="5184720" cy="576360"/>
          </a:xfrm>
          <a:prstGeom prst="wedgeRoundRectCallout">
            <a:avLst>
              <a:gd name="adj1" fmla="val -39666"/>
              <a:gd name="adj2" fmla="val -113166"/>
              <a:gd name="adj3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type of a result is co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bstitutability Princi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typ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object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replaced with object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altering any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able proper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at program (e.g. correctnes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more semantic approa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348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ric polymorphism has been introduced also in Java and 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Generics and Generic C# for 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oth cases the compiler is able to check parametric classes just looking at their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ric types are more than macros on 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 for generics is simi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skov Substitution Princi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true property of objec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true for objec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typ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havioral subty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ronger notion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ural subty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minal Subtyping (Duck Typing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bjects of cla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andle all of the messages that objects of cla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andle (that is, if they define all the sam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typ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ardless of inherita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it walks like a duck and swims like a duck and quacks like a duck, I call it a du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ructural Subtyp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ural ty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element is considered to be compatible with another if, for each feature within the second element's type, there is a corresponding and identical feature in the first element's ty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ype polymorphism is structural subty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ance is not subty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tructurally-typed OO langu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lass defines a methods that takes arguments or returns values of its ow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skov Signature Require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function or method types involves deciding on subtyping on method sign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rgument types must obey contravari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ypes must obey covari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196640"/>
            <a:ext cx="820728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 &lt;: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ble&lt;T&gt; is covariant on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&lt;T&gt; is contravariant on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ble&lt;Cat&gt; is a subtype of Enumerable&lt;Animal&gt;. The subtyping is preserv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&lt;Animal&gt; is a subtype of Action&lt;Cat&gt;. The subtyping is rever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List&lt;Cat&gt; nor List&lt;Animal&gt; is a subtype of the other, because List&lt;T&gt; is invariant o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Typical Vio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Square derived from class Rectangle, if for example methods from class Rectangle are allowed to change width/height independen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travariance of Arguments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virtual string AgeString(short age)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age.ToString();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LSPLegalSubType :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override string AgeString(int age) 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e5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39e5"/>
                </a:solidFill>
                <a:latin typeface="Lucida Sans Typewriter"/>
              </a:rPr>
              <a:t>// This is legal due to the Contravariance requirement </a:t>
            </a:r>
            <a:r>
              <a:rPr b="1" lang="en-US" sz="1600" spc="-1" strike="noStrike">
                <a:solidFill>
                  <a:srgbClr val="0039e5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0039e5"/>
                </a:solidFill>
                <a:latin typeface="Lucida Sans Typewriter"/>
              </a:rPr>
              <a:t>// widening the argument type is allow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age.ToString();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LSPIllegalSubType :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override string AgeString(byte age) 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c00000"/>
                </a:solidFill>
                <a:latin typeface="Lucida Sans Typewriter"/>
              </a:rPr>
              <a:t>// illegal due to the Contravariance requirement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base.AgeString((short)age);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variance of return Typ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440" y="119664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virtual int DaysSinceLastLogin(User user)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int.MaxValue;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LSPLegalSubType :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override short DaysSinceLastLogin(User user)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short.MaxValue; </a:t>
            </a:r>
            <a:r>
              <a:rPr b="1" lang="en-US" sz="1600" spc="-1" strike="noStrike">
                <a:solidFill>
                  <a:srgbClr val="0039e5"/>
                </a:solidFill>
                <a:latin typeface="Lucida Sans Typewriter"/>
              </a:rPr>
              <a:t>// Legal because it will always fit into an 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class LSPIllegalSubType : SuperType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public override long DaysSinceLastLogin(User user) {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return long.MaxValu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1600" spc="-1" strike="noStrike">
                <a:solidFill>
                  <a:srgbClr val="c00000"/>
                </a:solidFill>
                <a:latin typeface="Lucida Sans Typewriter"/>
              </a:rPr>
              <a:t>// Illegal because it will not surely fit into an int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Typewriter"/>
              </a:rPr>
              <a:t>} 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 wildcard or not to wildcard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9848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the ques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826920" y="4508640"/>
            <a:ext cx="8317080" cy="1191240"/>
          </a:xfrm>
          <a:prstGeom prst="rect">
            <a:avLst/>
          </a:prstGeom>
          <a:solidFill>
            <a:srgbClr val="f2f2f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interface Collection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&lt;T&gt; boolean containsAll(Collection&lt;T&gt;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&lt;T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E&gt; boolean addAll(Collection&lt;T&gt;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826920" y="2421000"/>
            <a:ext cx="7993080" cy="1191240"/>
          </a:xfrm>
          <a:prstGeom prst="rect">
            <a:avLst/>
          </a:prstGeom>
          <a:solidFill>
            <a:srgbClr val="f2f2f2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interface Collection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boolean containsAll(Collection&lt;?&gt;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public boolean addAll(Collection&lt;? extends E&gt;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  <a:ea typeface="Lucida Sans Unicod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wer Bound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31600" y="1698480"/>
            <a:ext cx="3809880" cy="4835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terface sink&lt;T&gt;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lush(T t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794120" y="1698480"/>
            <a:ext cx="3810240" cy="4835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ublic &lt;T&gt; T flushAll(Collection&lt;T&gt; col, Sink&lt;T&gt; sin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 la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r (T t: col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st = 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nk.flush(t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urn la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s in a Nutshel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6348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parameterization for classes, interfaces, and methods e.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class Set&lt;T&gt; { ... }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// parameterized class</a:t>
            </a:r>
            <a:br>
              <a:rPr sz="2000"/>
            </a:b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class Dict&lt;K,D&gt; { ... }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// two-parameter class</a:t>
            </a:r>
            <a:br>
              <a:rPr sz="2000"/>
            </a:b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interface IComparable&lt;T&gt; { ... }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// parameterized interface</a:t>
            </a:r>
            <a:br>
              <a:rPr sz="2000"/>
            </a:b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struct Pair&lt;A,B&gt; { ... }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// parameterized struct (“value class”) </a:t>
            </a:r>
            <a:br>
              <a:rPr sz="2000"/>
            </a:b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T[] Slice&lt;T&gt;(T[] arr, int start, int count)  // gener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ew restrictions on us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 instantiations can be primitive (only C#) or class e.g. </a:t>
            </a:r>
            <a:br>
              <a:rPr sz="2000"/>
            </a:b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t&lt;int&gt;    Dict&lt;string,List&lt;float&gt;&gt;    Pair&lt;DateTime, MyClass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methods of all kinds (static, instance, virtu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 through instantiated types e.g.</a:t>
            </a:r>
            <a:br>
              <a:rPr sz="2000"/>
            </a:b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lass Set&lt;T&gt; : IEnumerable&lt;T&gt;</a:t>
            </a:r>
            <a:br>
              <a:rPr sz="1800"/>
            </a:b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lass FastIntSet : Set&lt;int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6372360" y="5445000"/>
            <a:ext cx="2627280" cy="1008360"/>
          </a:xfrm>
          <a:prstGeom prst="wedgeEllipseCallout">
            <a:avLst>
              <a:gd name="adj1" fmla="val -31935"/>
              <a:gd name="adj2" fmla="val -86222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thods only in GC#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476360" y="2276640"/>
            <a:ext cx="3456000" cy="1081080"/>
          </a:xfrm>
          <a:prstGeom prst="wedgeEllipseCallout">
            <a:avLst>
              <a:gd name="adj1" fmla="val -31027"/>
              <a:gd name="adj2" fmla="val 71879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J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&gt; T[] Slice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wer Bound Example (2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nk&lt;Object&gt;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llection&lt;String&gt; c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ing str = flushAll(cs, s); // </a:t>
            </a:r>
            <a:r>
              <a:rPr b="0" lang="en-US" sz="2400" spc="-1" strike="noStrike">
                <a:solidFill>
                  <a:srgbClr val="cc0000"/>
                </a:solidFill>
                <a:latin typeface="Tw Cen MT"/>
              </a:rPr>
              <a:t>Err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wer Bound Example (3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ublic &lt;T&gt; T flushAll(Collection&lt;T&gt; col, Sink&lt;T&gt; sink) { …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ing str = flushAll(cs, s); // </a:t>
            </a:r>
            <a:r>
              <a:rPr b="0" lang="en-US" sz="2400" spc="-1" strike="noStrike">
                <a:solidFill>
                  <a:srgbClr val="cc0000"/>
                </a:solidFill>
                <a:latin typeface="Tw Cen MT"/>
              </a:rPr>
              <a:t>Err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w solvable a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t is not the correct type: it should b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wer Bound Example (4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ublic &lt;T&gt; T flushAll(Collection&lt;T&gt; col, Sink&lt;? Super T&gt; sink) { …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ing str = flushAll(cs, s); // </a:t>
            </a:r>
            <a:r>
              <a:rPr b="0" lang="en-US" sz="2400" spc="-1" strike="noStrike">
                <a:solidFill>
                  <a:srgbClr val="cc0000"/>
                </a:solidFill>
                <a:latin typeface="Tw Cen MT"/>
              </a:rPr>
              <a:t>O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w Cen MT Condensed"/>
              </a:rPr>
              <a:t>Combining generics and inherit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73200" y="1699920"/>
            <a:ext cx="8291520" cy="46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nheritance relation must be extended with a new subtyping rule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now cast up and down to </a:t>
            </a:r>
            <a:r>
              <a:rPr b="1" lang="en-GB" sz="2800" spc="-1" strike="noStrike">
                <a:solidFill>
                  <a:srgbClr val="000000"/>
                </a:solidFill>
                <a:latin typeface="Lucida Sans Typewriter"/>
              </a:rPr>
              <a:t>Objec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af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e: types must be substituted because the super-class can be parametr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871640" y="2643120"/>
            <a:ext cx="4572000" cy="1728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lass C&lt;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,...,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&gt; extends B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&lt;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&lt;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anipulating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 values into types has helped us to build better compi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we do the same with typ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can be grouped by means of inheritance which represents the union of type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ric types combined with inheritance allow express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ction on typ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ack&lt;T:Object&gt; : Cont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755640" y="5516640"/>
            <a:ext cx="1871640" cy="574560"/>
          </a:xfrm>
          <a:prstGeom prst="wedgeRoundRectCallout">
            <a:avLst>
              <a:gd name="adj1" fmla="val 44912"/>
              <a:gd name="adj2" fmla="val -71546"/>
              <a:gd name="adj3" fmla="val 16667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987640" y="5516640"/>
            <a:ext cx="2448000" cy="574560"/>
          </a:xfrm>
          <a:prstGeom prst="wedgeRoundRectCallout">
            <a:avLst>
              <a:gd name="adj1" fmla="val -36379"/>
              <a:gd name="adj2" fmla="val -77625"/>
              <a:gd name="adj3" fmla="val 16667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084720" y="5516640"/>
            <a:ext cx="1872000" cy="574560"/>
          </a:xfrm>
          <a:prstGeom prst="wedgeRoundRectCallout">
            <a:avLst>
              <a:gd name="adj1" fmla="val -55175"/>
              <a:gd name="adj2" fmla="val -70995"/>
              <a:gd name="adj3" fmla="val 16667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: generic contain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35120" y="1341360"/>
            <a:ext cx="840888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Row&lt;T : Control&gt; :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 /* row of graphic controls *&gt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lumn&lt;T : Control&gt; :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 /* column of graphic controls */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Table&lt;T : Control&gt; : Row&lt;Column&lt;T&gt;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 /* Table of graphic controls */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It generates the keypad of a calcul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e&lt;Button&gt; t = new Table&lt;Button&gt;(3, 3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; i &lt; 3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j = 0; j &lt; 3; j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[i, j].Text = (i * 3 + j + 1).ToString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971640" y="5300640"/>
            <a:ext cx="784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71640" y="4653000"/>
            <a:ext cx="7848360" cy="5763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71640" y="4005360"/>
            <a:ext cx="7848360" cy="576000"/>
          </a:xfrm>
          <a:prstGeom prst="rect">
            <a:avLst/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on generic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methods are similar to template methods in C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C++ JG tries to infer the type parameters from the method inv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 requires specifying the type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 T sqr(T x) { return x*x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 &lt;&lt; sqr(2.0) &lt;&lt; std::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F { &lt;T&gt; static void sort(T[] a) {…}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s; F.sort(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F { static void sort&lt;T&gt;(T[] a) {…}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s; F.sort&lt;string&gt;(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 Stac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5120" y="191592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Stack&lt;T&gt;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T[] item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nitem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ck&lt;T&gt;() { nitems = 0; items = new T[] (50)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Pop() {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items == 0) throw Empty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tems[--nitems]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IsEmpty() { return (nitems == 0)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ush(T item)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tems.Length == nitems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[] temp = items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 = new T[nitems*2]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.Copy(temp, items, nitems)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s[nitems++] = ite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6227640" y="1989000"/>
            <a:ext cx="2232000" cy="2087640"/>
          </a:xfrm>
          <a:prstGeom prst="cloudCallout">
            <a:avLst>
              <a:gd name="adj1" fmla="val -82078"/>
              <a:gd name="adj2" fmla="val -22851"/>
            </a:avLst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compiler check the defi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semantic probl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++ compiler cannot make assumptions about typ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way to type-check a C++ class is to wait for argument specification (instantiation): only then it is possible to check operations used (i.e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n sort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ndpoint of the C++ compiler semantic module all types are not parametr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hecking class defin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196640"/>
            <a:ext cx="7772400" cy="53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ble to type-check a parametric class just looking at its definition the no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trodu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ethod arguments have a type, type arguments are bound to other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allow to use values of such types as if upcasted to the bound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lass Vector&lt;T: Sortable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the vector should implement (or inherit from)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or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ttardi</cp:lastModifiedBy>
  <dcterms:modified xsi:type="dcterms:W3CDTF">2017-03-20T12:41:57Z</dcterms:modified>
  <cp:revision>188</cp:revision>
  <dc:subject/>
  <dc:title>PowerPoint Presentation</dc:title>
</cp:coreProperties>
</file>